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124-3C36-42BC-A629-8058D2C7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9DC-CC68-4E88-B0EF-7254A61A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AA6E1-EBD8-4B81-B92F-4385B453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A2CB9-0CD2-4CF5-97F9-E63E6AE1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C9361-47C3-4E70-B528-A3ED2540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2F507-4BE7-4749-851F-58F815DE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2FB47-FBD7-4623-BC71-E5C9978B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AFFD5-15FE-4FFE-906A-90AE76CD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DA5C3-5739-4242-9ABA-630E0CE4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31CCE-1544-4B9A-99CD-2BF35F01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D6CDF-B054-4E13-9726-34A10906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489CF1-F958-41AD-83B7-74C5B3EF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DF4-873C-4312-8998-B19720F0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E8BD29-9EE4-45D2-8DB2-F787A63B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CB4248-5937-42A8-9C09-58E31A6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2FF719-96FA-459D-8B3D-32F905C4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E20BA5-2200-4A12-9B59-60C1CF62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683BE-0EF5-4805-9F1A-C4DD8A6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144225-94A0-48AB-8F2A-F5A2D6C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A9A47F-6231-46BC-AB87-D0AD30E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8AB107-DDCF-4317-82DD-794BBABF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D12033-B7D1-4268-80A7-502D8F4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5435C6-2013-4E8B-88AA-14FACB9C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6A9-5AF3-4FD8-B95A-AA32CB98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A91865-A286-4B42-807B-AFBD3A67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21440-2E4C-4035-A3BE-7D655332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CA3B9-A54E-48F6-B4F8-B99A4C54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A767D-EEF0-4A25-BAB6-81B35C33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76DA0-6614-4C77-8CC8-C941DB11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073B1-DFDA-4C96-A15F-54D3F321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511D4-A72A-4F58-9D35-BFEFF4AB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64D56-BD60-497E-9AFB-AA3B69C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8397C-D2F5-4313-8B45-D22F09C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F1D71-6670-40F9-8139-3156319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7AD9-E94B-4B2B-9A10-8F6EF4C8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B7C82-0734-4818-8BD2-CAF686AB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2B2E9-62F6-4F5C-BCF6-6727BAB7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2B4FC-F157-4517-B310-B303CF05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C2086-BF85-48F7-877E-4B00A7FC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46D24-EE9D-433F-BACC-20D644C8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E11EF-AB29-4D16-AAE7-945A335B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3C6EA-5F51-4435-B4E1-2BEC4C3C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53E3A-742A-4DF6-9A12-2340D1C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1932A-C4A5-4DD0-BB23-7CA8DAA9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88F18-D7F9-4A75-9886-0220019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CCD4-7E95-4EAA-8710-538EDF79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3A886-56BD-4FBF-9225-174C1B75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C09EC-1A2E-4F4C-B34A-A942C7C7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40D39-1F80-4F71-8252-AC4C544D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F4013-6C94-419F-8CF4-8AC6C21E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BD368-7F12-4A24-A5D8-DEB88069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FB55-2D96-4650-916B-0E3495EA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08E6-5B6B-4E2D-AFEA-F6D7C54A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06BB-9195-4CDB-9831-30446331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0C35-5BDA-4C83-82DC-1C1EA020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8074-F072-4E82-89B1-2CDB81A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D99-DC72-4C46-85A5-23E2FE44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933-CC64-4E95-9ABF-95242C6C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1D22-FB20-49C1-88BC-3C3D0E0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FC04-FD3A-44F3-9BDA-1B746BBE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09DF-88EC-4239-A6B9-51DA6B84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9299-6A17-4012-9542-F3B130A5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5919-3095-48C6-8931-75211723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6C17-BF7E-422B-B147-267CC897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2020-4ADE-4988-BB74-DE504FB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D4E6-FF8E-4A70-871F-54C745BB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2CE2-ECB9-453B-87F9-B7E377A3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32A-C8D5-4AFA-9582-754E3C4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C10E-7553-42B7-91D3-8CD4360E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DAC6-522E-4DFF-B1D9-A36D30C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5DE3-6142-4217-89F3-95833B9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EE26-59CF-4AE7-80B4-45A68EC5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F94E-6822-4207-ADF6-80DC031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658E-1DF6-4517-8787-97A1B170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FD3F-6E85-4C4D-B49A-8A9F551E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F2A17-DB27-4F25-8ED5-38912189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FFA89-E03A-4147-8F10-093A6422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9AFA4-250C-4C83-BF02-19799AF4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5A0-0429-46B9-87B7-2DCABF8C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49116-2669-491B-8AF9-3B169BFC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87C73-760A-4316-A082-9BE6F9FE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E6BD9-EE8E-40E0-960E-16E5E94B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EA8B3-8D20-4F5E-8688-5E4D3F0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38616-2498-4E1A-A6D9-11230289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F8581-1EB2-4EE1-A810-5C1392D7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43426-0ACA-4684-A632-6AC38F1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ABD7C-818A-4B20-9464-399030C6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1ADCF-B92C-4796-84CE-8AE6B68C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EBECC-AAB5-4012-BD57-78D7431F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29B-D2FF-4BDA-912F-A9F20AE1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51DA5-0E95-4057-BA93-EBE498B8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A5786-4423-4711-869D-AB3623E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170D2-2CEA-4BEA-BAC6-ABA28C56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FE1EE-D04E-4D97-9A08-203FF6D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28AE2-8BB1-4BFF-A280-5FCAB1F5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BC8D0-3D76-4428-9934-4C5033B1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71C5F-F326-4CB7-BB86-9B686F3B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34CE9-6CEA-4DB6-88C6-E25C1475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006A3-244A-437D-A667-958FABE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1A334-0111-4AAF-828A-F1975104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D32-81ED-4FF0-BA4D-306FCB81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30C5F-EB60-457D-9726-0AA3BECD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2B97A-C8BD-4178-8484-A466AC16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1E17C-4456-41E7-A411-7780070B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1BD12-6737-4D1B-93FD-4A51400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BDA6C-6E98-484A-B8BD-7814B05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FC582-C7DA-41BD-B945-0346DF4E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5AB95-EBBD-47A0-820E-C776D8BF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20505-D610-40A9-AC0B-CC078CC7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23893-8AF3-4B41-BC6D-C2B2DB00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16331-C38F-4E81-AEEF-975E34E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E7A-1ECB-4CDE-ACDF-0F985DB0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ED7DD-D08C-4405-8ADC-316B583F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10D3B-2F2B-4AE4-9678-2BCE8449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01CBF-6A90-4163-9993-FF88C056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9AC9F-979F-4AF8-9765-368C7DF5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9A047-0C29-4072-85C1-9E3A1DCE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A82E5-574B-489D-BC99-F0F4DA32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3A666-7AA4-43BE-8453-E2C6E82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7F73-9807-4726-9885-FA276C9D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17A0C-497B-42D5-A144-C56D88C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B898-EB07-4F5E-B3AE-E5453B88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844-28C4-45F5-93D6-5262048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9B5F5-57B8-46BC-89F3-8B853E34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9FF84-7D60-475D-A37F-18289B8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75666-2857-4CCA-8178-8CB71BFB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A0B5C-636F-459E-99A8-D69FCA56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17CE-FE01-4610-A851-88E8C776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A53EC-7CBA-44A8-95B1-CD47A427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9A518-448A-4264-B7F4-FBF706A7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1FBC3-5CD2-4E3A-84B3-840FD13A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2604-1D4B-4F02-9963-1F9F5219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7B16-829F-4ECF-8AE2-398DE592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B02-05E1-4D08-9DC1-F3C0C31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C1E2C-036E-40A2-A95A-35D6CD2F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2D89-DCBA-419E-9A10-85FE0229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526A8-5972-4B83-A116-2D12FC9F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FD616-8653-40D4-841F-1C82863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E0574-58C0-446A-8E75-B8C4F5DB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9E15-D1AA-43BC-9FE9-0E0FB2C7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CB1D-FC62-4659-9290-CB346845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096E9-2510-4F43-815F-AB1609B3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091D6-2879-4EED-864B-21F3AF32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2E40C-CF96-43A3-928A-5825DC7A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5585-1015-4FB5-BA34-F1B4792C6B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F0C2-87E5-4B2A-A5CB-72236E2FB76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2372-EDCB-42A3-A684-7F77FF2827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4F2E-70E7-476A-B255-C8F5DA9A8B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A881-A524-4075-8CAF-F8AB37A7ED11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30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1521272E-881B-4491-B40E-FDF07D6A2A2D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02:0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BCB7-E26D-470E-BED5-8779013631CC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CCEE-8F5A-4D1A-BE47-2C2D9958D1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8D89-1DEA-441C-9622-078E77FD7ED6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30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45A73692-4519-4DD1-ACAD-86BBE0B374A7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02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FA1A-37BC-4D23-B22F-537D3BD1B9D6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B4F5-20A7-41E3-94CD-AF63CCA738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AE2D-EBBF-4641-97AB-0933317F7F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09F-AC57-4C8C-A3D2-47FEDA3B7C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470-5C21-43C9-B74B-17CF46F14F02}" type="slidenum">
              <a:rPr b="1" lang="en-US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009dd9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0A76-9AC1-4E91-98ED-D407FC0F57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Primernie_rabochie_progra.htm" TargetMode="External"/><Relationship Id="rId3" Type="http://schemas.openxmlformats.org/officeDocument/2006/relationships/hyperlink" Target="https://edsoo.ru/Primernie_rabochie_progra.htm" TargetMode="External"/><Relationship Id="rId4" Type="http://schemas.openxmlformats.org/officeDocument/2006/relationships/hyperlink" Target="https://edsoo.ru/Primernie_rabochie_progra.htm" TargetMode="External"/><Relationship Id="rId5" Type="http://schemas.openxmlformats.org/officeDocument/2006/relationships/hyperlink" Target="https://fgosreestr.ru/" TargetMode="External"/><Relationship Id="rId6" Type="http://schemas.openxmlformats.org/officeDocument/2006/relationships/hyperlink" Target="https://fgosreestr.ru/" TargetMode="External"/><Relationship Id="rId7" Type="http://schemas.openxmlformats.org/officeDocument/2006/relationships/hyperlink" Target="https://edsoo.ru/constructor/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одзаголовок 10"/>
          <p:cNvSpPr/>
          <p:nvPr/>
        </p:nvSpPr>
        <p:spPr>
          <a:xfrm>
            <a:off x="0" y="21337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ОРГАНИЗАЦИЯ СОПРОВОЖДЕНИЯ УЧИТЕЛЕЙ В ПРОЦЕССЕ РЕАЛИЗАЦИИ ОБНОВЛЕННЫХ ФГОС НАЧАЛЬНОГО ОБЩЕГО ОБРАЗОВАНИЯ И               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4249800" y="634536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1619280" y="5445000"/>
            <a:ext cx="640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Сапегина Светлана Юрьевна                                                  ведущий специалист Управление образования Администрации Талиц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6" name="Picture 2" descr="C:\Users\MalenkovaEV.EDU1\Desktop\Картинки\flag_rossiya_simvolika_lenty_trikolor_99276_2560x1600.jpg"/>
          <p:cNvPicPr/>
          <p:nvPr/>
        </p:nvPicPr>
        <p:blipFill>
          <a:blip r:embed="rId1"/>
          <a:stretch/>
        </p:blipFill>
        <p:spPr>
          <a:xfrm>
            <a:off x="109440" y="262080"/>
            <a:ext cx="3492720" cy="16160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80964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Рисунок 5" descr=""/>
          <p:cNvPicPr/>
          <p:nvPr/>
        </p:nvPicPr>
        <p:blipFill>
          <a:blip r:embed="rId1"/>
          <a:stretch/>
        </p:blipFill>
        <p:spPr>
          <a:xfrm>
            <a:off x="252360" y="44280"/>
            <a:ext cx="720720" cy="10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50708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Calibri"/>
              </a:rPr>
              <a:t>ПОЗДРАВЛЯЕМ ВАС С НАЧАЛОМ НОВОГО УЧЕБНОГО ГО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76000" y="104760"/>
            <a:ext cx="728964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рганизационно-подготовительные мероприят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курсовой подготовки по внедрению обновленных ФГОС НОО и ФГОС ООО для педагогических работни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ование цикла мероприятий ( практических групповых занятий, индивидуальных консультаций и др.) по работе с порталом Единое содержание общего образования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для информирования педагогов о нормативных документах и освоении конструктора рабочих программ с целью подготовки рабочих програм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педагогов, реализующих обновленные ФГОС НОО и ФГОС ОО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молодых педагогов, которым предстоит начать работу по обновленным ФГОС НОО и ФГОС ООО с 01.09.2022 год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формационн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зменениях норматив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курсах повышения квалификации по вопросам реализации ФГОС НОО и ФГОС ООО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возможности получить консультативную поддержку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организации внедрения обновленных ФГОС НОО и ФГОС ОО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постоянно действующих семинаров (в том числе в дистанционном режиме) по вопросам введения обновленных ФГОС НОО и ФГОС ОО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региональных, муниципальных научно-практических конференций, педагогических чтений, вебинаров по проблемам введения обновленных ФГОС НОО и ФГОС О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мероприятий (вебинары, практические групповые занятия, индивидуальные консультации и др.) по работе с порталом Единое содержание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с целью поддержки педагогов, которые испытывают затруднения по освоению конструктора рабочих програм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и анализ уроков учителей, работающих по обновленным ФГОС НОО и ФГОС ООО с целью оказания методической поддержки и определения профессиональных затрудн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взаимопосещения уроков учителями, работающими по обновленным ФГОС НОО и ФГОС ООО, в рамках одного методического направления и между различными методическими направл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формировании и развитии системы наставничества для оказания помощи и профессионального роста молодых педагогов, работающих по обновленным ФГОС НОО и ФГОС ООО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ДЛЯ ОБСУЖ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оценочной деятельности в образовательной организации в связи с внедрением обновленных ФГОС НОО и ФНОС ООО. Развитие внутренней системы оценки качества образования (ВСОКО)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требований к предметным результатам в рамках реализации обновленных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спользование электронных средств обучения и дистанционных технологий для повышения качества образовательной деятельности в рамках внедрения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тодический инструментарий учителя-предметника: подборка методических материалов, электронных ресурсов и нормативных документов для организации образовательной деятельности по обновленным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требования ФГОС НОО и ФГОС СОО к психолого-педагогическому сопровождению образовательной деятельности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формы занятий внеурочной деятельности в рамках внедрения ФГОС НОО и ФГОС ООО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готовности учителей к началу внедрения обновленных ФГОС НОО и ФГОС ООО: подготовка рабочих программ, оценочных материалов и др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образовательной деятельности в контексте внедрения обновленных ФГОС НОО и ФГОС ООО. Выявление профессиональных затруднений (дефицитов) в подготовке и проведении уро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тировка направлений и форм методического сопровождения учителей на основе результатов мониторинг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рабочих программ учебных предм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планов-конспектов (технологических карт) уроков (внеурочных занятий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классных журна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ные рабочие программы по предметам обязательной части учебного плана доступны педагогам посредством портала Единого содержания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edsoo.ru/Primernie_rabochie_progra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а также реестра примерных основных общеобразовательных программ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https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fgosreestr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ртале Единого содержания общего образования действует конструктор рабочих программ – удобный бесплатный онлайн-сервис для индивидуализации примерных рабочих программ по учебным предметам: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https://edsoo.ru/constructo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мощь учителю разработаны и размещены в свободном доступе методические видеоуроки для педагогов, разработанные в соответствии с обновленными ФГОС начального и основного общего образования: https://edsoo.ru/Metodicheskie_videouroki.htm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ы в свободном доступе учебные пособия, посвященные актуальным вопросам обновления предметного содержания по основным предметным областям ФГОС НОО и ООО: https://edsoo.ru/Metodicheskie_posobiya_i_v.htm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ую консультативную помощь по вопросам реализации обновленных ФГОС НОО и ООО учитель и руководитель образовательной организации может получить, обратившись к ресурсу «Единое содержание общего образования» по ссылке: https://edsoo.ru/Goryachaya_liniya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совет66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s://pedsovet66.irro.ru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дел «Обновленные ФГОС» размещены ответы на вопросы слушателей ДПП «Реализация требований обновленных ФГОС НОО, ФГОС ООО в работе учителя»,  «горячая линия» для консультаций педагогов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15:55:46Z</dcterms:created>
  <dc:creator>mm1</dc:creator>
  <dc:description/>
  <dc:language>en-US</dc:language>
  <cp:lastModifiedBy>User</cp:lastModifiedBy>
  <dcterms:modified xsi:type="dcterms:W3CDTF">2022-08-27T07:31:17Z</dcterms:modified>
  <cp:revision>539</cp:revision>
  <dc:subject/>
  <dc:title>Презентация PowerPoint</dc:title>
</cp:coreProperties>
</file>